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61B-EB48-43F2-9CF4-799D939E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A12-7143-47E2-81F6-BC6B9EC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0B9-53AE-4ABA-BB01-656E7353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627-1546-4A68-BDE6-9646C8CC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8F29-3939-4C48-A6F7-82FA4717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EF49-DE13-4D37-BCD0-E7CFBF06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1C6F-3E9D-49BC-88B0-39462B65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0118-094E-4070-850C-268E644B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671E-DF0F-46B0-BBE6-D9752BA2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978-50AB-4F1E-89C0-CA3AC820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D230-D721-4389-8E68-9647DA0A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D1E-8A1B-4BA1-A40E-961510DE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C402-8802-4EED-A906-369C9A1F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83A-82CA-47E9-B0C3-F01004E9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4EBE-8B35-4E25-9614-6C924751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C964-9ED9-43A9-9D36-8D010224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958F-0B5D-452A-9064-A1619EBC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CE0-870F-443B-850A-BC884325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080-3474-4383-8945-8883C391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E78-D7E3-4E36-97C4-B42C2B14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87E-3B10-425C-A86F-430AD60B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6E5-C625-43FB-B7DB-5457A56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8C6-A2F8-4A5A-BA5A-93AC74B7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381-0A6A-4796-B183-2B87521A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75767f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C3C1-D85B-4F0E-837D-28296678F8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75767f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18982"/>
                </a:gs>
                <a:gs pos="100000">
                  <a:srgbClr val="5758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8982"/>
                  </a:gs>
                  <a:gs pos="100000">
                    <a:srgbClr val="5758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95E6-950F-4197-9A82-23F714D4D3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lackadder ITC"/>
              </a:rPr>
              <a:t>The American story part 2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By: Rondale Sal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nior Seau, 1969-20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ay 2, 2012: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Former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NFL linebacker Junior Seau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committed suicide by a self-inflicted gunshot wound to the chest. Later analysis of Seau's brain reveled that he suffered from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hronic Traumatic Encephalopathy (CTE)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, a form of degenerativ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rain damage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associated with repetitiv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ub-concussional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trauma to the brai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5" descr="Junior Seau, 1969-2012.jpg"/>
          <p:cNvPicPr/>
          <p:nvPr/>
        </p:nvPicPr>
        <p:blipFill>
          <a:blip r:embed="rId2"/>
          <a:stretch/>
        </p:blipFill>
        <p:spPr>
          <a:xfrm>
            <a:off x="6248520" y="1600200"/>
            <a:ext cx="2895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hina's Manned Space Program: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une 16, 2012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na launched its fourth manned space expedition,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henzhou-9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C618N0079H_2012資料照片_N71_copy1.JPG"/>
          <p:cNvPicPr/>
          <p:nvPr/>
        </p:nvPicPr>
        <p:blipFill>
          <a:blip r:embed="rId2"/>
          <a:stretch/>
        </p:blipFill>
        <p:spPr>
          <a:xfrm>
            <a:off x="5029200" y="13716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131660413_31n.jpg"/>
          <p:cNvPicPr/>
          <p:nvPr/>
        </p:nvPicPr>
        <p:blipFill>
          <a:blip r:embed="rId3"/>
          <a:stretch/>
        </p:blipFill>
        <p:spPr>
          <a:xfrm>
            <a:off x="4952880" y="3581280"/>
            <a:ext cx="235296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2012 Summer Olympics in Lond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3" name="Picture 5" descr="London-2012-Olympics-Tower-Bridge.jpg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80880" y="160020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July 27, 2012: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In London, the opening ceremony to the 2013 Summer Olympic Games were held.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Death of the First Man on the Moon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ugust 25, 2012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Retired American Astronaut Neil Armstrong, the first human being to walk on the Moon, died at the age of 82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734px-As11-40-5886.jpg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First Obama-Romney Debate: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 the first televised debate between the Republican and Democratic presidential nominees, Mitt Romney won a clear victory over President Obam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5" descr="presidential-debate-1003.jpg"/>
          <p:cNvPicPr/>
          <p:nvPr/>
        </p:nvPicPr>
        <p:blipFill>
          <a:blip r:embed="rId2"/>
          <a:stretch/>
        </p:blipFill>
        <p:spPr>
          <a:xfrm>
            <a:off x="5638680" y="1523880"/>
            <a:ext cx="3505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Obama Bounces Back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Verdana"/>
              </a:rPr>
              <a:t>President Obama and Governor Romney debated for a second time, this time in a "Town Hall" format. In this debate, Obama was much more aggressive, and much more effectiv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5" descr="1017_Debate_02_630x420.jpg"/>
          <p:cNvPicPr/>
          <p:nvPr/>
        </p:nvPicPr>
        <p:blipFill>
          <a:blip r:embed="rId2"/>
          <a:stretch/>
        </p:blipFill>
        <p:spPr>
          <a:xfrm>
            <a:off x="6019920" y="1523880"/>
            <a:ext cx="31240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hina's 5th Manned Space Missio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June 11, 2013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China launched its fifth manned mission into space,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Shenzhou-10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5" descr="Shenzhou-10-11June2013-Long-March-2F-Rocket.jpg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Pope Francis issues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vember 26, 2013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a Papal treatise entitled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Evangelii Gaudi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pe Franci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enounced unrestrained capitalism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5" descr="Pope-Francis-2013.jpg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Seattle Seahawk's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January 19, 2014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In the NFC Championship game between 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attle Seahawk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an Francisco Forty-Niner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5" descr="Richard-Sherman-Rant-NFC-Championship-19Jan2014.jpg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ebruary 2, 2014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uper Bowl XLVIII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attle Seahawk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defeated the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enver Bronco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43 to 8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. Seattle's victory over Denver was the Seahawk's first Super Bowl Championship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5" descr="Russell-Wilson-Seattle-QB-Super-Bowl-XLVIII.jpg"/>
          <p:cNvPicPr/>
          <p:nvPr/>
        </p:nvPicPr>
        <p:blipFill>
          <a:blip r:embed="rId2"/>
          <a:stretch/>
        </p:blipFill>
        <p:spPr>
          <a:xfrm>
            <a:off x="487692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publican Presidential Debat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913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ublican Presidential hopefuls debated in Manchester, New Hampshire over 6 months in advance of the New Hampshire Primary.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June 13, 2011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863"/>
                </a:solidFill>
                <a:latin typeface="Arial"/>
              </a:rPr>
              <a:t>Troops--Surround Ukrainian Military Base</a:t>
            </a:r>
            <a:r>
              <a:rPr b="0" lang="en-US" sz="4400" spc="-1" strike="noStrike">
                <a:solidFill>
                  <a:srgbClr val="57586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March 2, 2014: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Armed troops who were presumably Russian troops took up posts outside a Ukrainian military base in the Crimea region of Ukraine. Reportedly the base was surrounded by these troop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5" descr="Ukrainian-Military-Base-Crimea-Surrounded-by-Armed-Men-2MARCH2014.jpg"/>
          <p:cNvPicPr/>
          <p:nvPr/>
        </p:nvPicPr>
        <p:blipFill>
          <a:blip r:embed="rId2"/>
          <a:stretch/>
        </p:blipFill>
        <p:spPr>
          <a:xfrm>
            <a:off x="5410080" y="1523880"/>
            <a:ext cx="3733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IS Beheads British Humanitarian Aid Worker David Hain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eptember 13, 2014, an image showing British humanitarian aid worker David Haines prior to his brutal execution at the hands of ISI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5" descr="Daily-Mail-13SEPT2014-photo-release-ISIS-Executes-David-Haines.jpg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rrorism in France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6240" y="3209760"/>
            <a:ext cx="8003880" cy="29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mages released by French authorities of two people believed to be connected to a hostage situation in Paris, January 9, 2015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Yahoo.com-copy-French-Law-Enforcement-Images-Hayat-Boumeddiene-and-Amedy-Coulibaly.jpg"/>
          <p:cNvPicPr/>
          <p:nvPr/>
        </p:nvPicPr>
        <p:blipFill>
          <a:blip r:embed="rId2"/>
          <a:stretch/>
        </p:blipFill>
        <p:spPr>
          <a:xfrm>
            <a:off x="990720" y="12193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rench Forces Bring Two Hostage Situations to an End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wo brothers suspected of carrying out the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Charlie Hebdo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Massacre, and who evidently were killed during an assault by French forces on January 9, 2015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ollege Football Playoff Championship Game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Ohio State Defeated Oregon, 42 to 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January 12, 2015 (Monday)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5" descr="AP-Photo-Ohio-State-Runner-Carries-the-Ball-Against-Oregon-National-Championship-Game-Monday-12JAN2015.jpg"/>
          <p:cNvPicPr/>
          <p:nvPr/>
        </p:nvPicPr>
        <p:blipFill>
          <a:blip r:embed="rId3"/>
          <a:stretch/>
        </p:blipFill>
        <p:spPr>
          <a:xfrm>
            <a:off x="4495680" y="1752480"/>
            <a:ext cx="4648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 Bowl XLIX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New England Patriots Defeated the Seattle Seahawks, 28 to 2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February 1, 2015 (Sunday)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5" descr="Getty-Images-New-England-HC-Bill-Belichick-celebrating-with-Patriots-Player-Darrelle-Revis-after-winning-Super-Bowl-XLIX-versus-the-Seattle-Seahawks-1FEB2015.jpg"/>
          <p:cNvPicPr/>
          <p:nvPr/>
        </p:nvPicPr>
        <p:blipFill>
          <a:blip r:embed="rId2"/>
          <a:stretch/>
        </p:blipFill>
        <p:spPr>
          <a:xfrm>
            <a:off x="5029200" y="1600200"/>
            <a:ext cx="4114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EO OF APPLE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ugust 24, 2011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im Cook, Baldwin County, Alabama nativ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and an alumnus of both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obertsdale High School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uburn University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was named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hief Executive Officer of Appl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, one of the world's foremost computer compani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5" descr="200px-Tim_Cook_2009_cropped.jpg"/>
          <p:cNvPicPr/>
          <p:nvPr/>
        </p:nvPicPr>
        <p:blipFill>
          <a:blip r:embed="rId2"/>
          <a:stretch/>
        </p:blipFill>
        <p:spPr>
          <a:xfrm>
            <a:off x="5486400" y="167652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BallroomTango"/>
              </a:rPr>
              <a:t>Best coach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Verdana"/>
              </a:rPr>
              <a:t>Joe Paterno Won his 409th Game at Penn State</a:t>
            </a:r>
            <a:r>
              <a:rPr b="0" lang="en-US" sz="3200" spc="-1" strike="noStrike">
                <a:solidFill>
                  <a:srgbClr val="cc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5" descr="AP-Photo-Joe-Paterno-29OCT2011-PSU-After-409th-Victory.jpg"/>
          <p:cNvPicPr/>
          <p:nvPr/>
        </p:nvPicPr>
        <p:blipFill>
          <a:blip r:embed="rId2"/>
          <a:stretch/>
        </p:blipFill>
        <p:spPr>
          <a:xfrm>
            <a:off x="4762440" y="1447920"/>
            <a:ext cx="438156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The Quest for the Republican Nomination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cember 10, 2011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publicans presidential candidates debated prior to the Iowa Caucu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1215-final-Republican-Debate-thursday-night_full_380.jpg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U.S. Troops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4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he Last American Combat Troops Leave Iraq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ecember 18, 2011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5" descr="U.S.-out-of-Iraq-2011.jpg"/>
          <p:cNvPicPr/>
          <p:nvPr/>
        </p:nvPicPr>
        <p:blipFill>
          <a:blip r:embed="rId2"/>
          <a:stretch/>
        </p:blipFill>
        <p:spPr>
          <a:xfrm>
            <a:off x="4857840" y="1600200"/>
            <a:ext cx="42861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Whitney Houston, 1963-2012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ebruary 11, 2012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Singer and Actress Whitney Houston died of a drug overdos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Whitney-Houston-1963-2012.jpg"/>
          <p:cNvPicPr/>
          <p:nvPr/>
        </p:nvPicPr>
        <p:blipFill>
          <a:blip r:embed="rId2"/>
          <a:stretch/>
        </p:blipFill>
        <p:spPr>
          <a:xfrm>
            <a:off x="5029200" y="14479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ayvon Marti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lture War: The Killing of Trayvon Marti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bruary 26, 2012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Trayvon-Martin.jpg"/>
          <p:cNvPicPr/>
          <p:nvPr/>
        </p:nvPicPr>
        <p:blipFill>
          <a:blip r:embed="rId2"/>
          <a:stretch/>
        </p:blipFill>
        <p:spPr>
          <a:xfrm>
            <a:off x="5638680" y="15238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chard Land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ulture War: Southern Baptist Religious Right Political Activist Richard Land, Race, and the Murder of Trayvon Marti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March 31, 2012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Richard-Land-photo-portrait.jpg"/>
          <p:cNvPicPr/>
          <p:nvPr/>
        </p:nvPicPr>
        <p:blipFill>
          <a:blip r:embed="rId2"/>
          <a:stretch/>
        </p:blipFill>
        <p:spPr>
          <a:xfrm>
            <a:off x="5867280" y="1600200"/>
            <a:ext cx="32767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8:28:00Z</dcterms:created>
  <dc:creator>user</dc:creator>
  <dc:description/>
  <dc:language>en-US</dc:language>
  <cp:lastModifiedBy>Mark Leavins</cp:lastModifiedBy>
  <dcterms:modified xsi:type="dcterms:W3CDTF">2015-02-20T00:47:50Z</dcterms:modified>
  <cp:revision>6</cp:revision>
  <dc:subject/>
  <dc:title>The American story part 2</dc:title>
</cp:coreProperties>
</file>